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01245"/>
        <c:axId val="6673869"/>
      </c:barChart>
      <c:catAx>
        <c:axId val="52501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869"/>
        <c:crosses val="autoZero"/>
        <c:auto val="1"/>
        <c:lblAlgn val="ctr"/>
        <c:lblOffset val="100"/>
        <c:noMultiLvlLbl val="0"/>
      </c:catAx>
      <c:valAx>
        <c:axId val="6673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1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88C-3127-4CC8-AF37-0D1D1D52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53D-2B15-4BBD-8402-37BF990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6B0-B958-422B-BFF5-DE23C619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C11-AF39-42F6-97A1-D91C51C1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3F2-4B70-4C88-A92E-02C636B6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A21-CA90-47E1-8E01-FE87F87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0C4-B174-4E5A-BA0F-14B6F797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D3C-9B54-4B96-9B5F-F43AA0DC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BBD-50DF-4B17-BDAD-7066E0DB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3BF-E483-408A-8393-3ADD427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092-A90A-4AC0-B3D9-7F2E6BD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EF0-E95E-49EF-9155-E086771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1A410-DB6E-41BF-BAA6-445DE723F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