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61275"/>
        <c:axId val="36983024"/>
      </c:barChart>
      <c:catAx>
        <c:axId val="17261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83024"/>
        <c:crosses val="autoZero"/>
        <c:auto val="1"/>
        <c:lblAlgn val="ctr"/>
        <c:lblOffset val="100"/>
        <c:noMultiLvlLbl val="0"/>
      </c:catAx>
      <c:valAx>
        <c:axId val="36983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61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88F-F89E-46BD-8EBC-27CDF196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4B4-69B4-4C95-9C5B-73F6D58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31F-EBAE-4EDD-AFA0-51F7A14F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19F-BAED-45E5-BA4A-EA713507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36D-34F2-437E-A75C-1904F46E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369-0EDA-462E-B634-DC3D60AC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FA9-6355-4F7B-AB98-F86476B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A5B-2DE6-4C52-B4C0-D8BD05B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18F-15FE-465C-8E57-AD8DE596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989-272B-4351-BB78-5A0C66E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4D6-D18C-4217-88CD-D8A13B6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57B-23EE-4F85-A392-079731B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0997-00C1-4EDC-9477-BD8087574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