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76975"/>
        <c:axId val="59035528"/>
      </c:barChart>
      <c:catAx>
        <c:axId val="55176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35528"/>
        <c:crosses val="autoZero"/>
        <c:auto val="1"/>
        <c:lblAlgn val="ctr"/>
        <c:lblOffset val="100"/>
        <c:noMultiLvlLbl val="0"/>
      </c:catAx>
      <c:valAx>
        <c:axId val="590355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76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7D05-FE2B-42D5-9985-6E60D11E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2BE-48FE-4C0D-89F7-7B4B5351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95DA-CCF7-4749-8542-6AEB2465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8E7B-D4F6-403D-A4EC-3630DE2B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093-1F77-4A93-880C-BC980BE0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233-FC49-4206-AA68-7162B49D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371C-ECC3-4E93-9931-BC493D4D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3343-0A22-4BA8-937E-94CFBAA5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1404-EAE6-4D17-8DEE-C6B9F042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B522-7802-4274-BCFC-7E7B4555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12CF-F255-428A-882E-C70B0AD5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796-77F6-4F7F-852F-5B59B25A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C2EB1-65AC-4D9E-80FC-BCFE805215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