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9702"/>
        <c:axId val="7176111"/>
      </c:barChart>
      <c:catAx>
        <c:axId val="1089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6111"/>
        <c:crosses val="autoZero"/>
        <c:auto val="1"/>
        <c:lblAlgn val="ctr"/>
        <c:lblOffset val="100"/>
        <c:noMultiLvlLbl val="0"/>
      </c:catAx>
      <c:valAx>
        <c:axId val="7176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9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8C9-C252-4EF9-8ADC-C1FBFD0F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89F-1266-4F23-AFF1-B54DD427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D35-19CA-4FE7-BCB4-B6C7EAC0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415-06DD-4B33-B53E-D3F3C515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F07-FA4E-419B-A38A-13D2054F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716-B9F4-4E77-8677-B65DFA3C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7CA-1AB8-440C-AE9D-1A04D1B9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770-75C5-416B-9FFF-A6F975DA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EC1-C4F1-4C0C-B58C-54BC51B1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78F-154D-4D6A-889F-2FE19E3C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ADE-0886-4662-89CC-3BCA39C6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EDC-A691-4ACA-AD07-180B4830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CC9F3-A6E8-46D4-B355-EF9A9D7AFB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