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08654"/>
        <c:axId val="49015578"/>
      </c:barChart>
      <c:catAx>
        <c:axId val="5750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15578"/>
        <c:crosses val="autoZero"/>
        <c:auto val="1"/>
        <c:lblAlgn val="ctr"/>
        <c:lblOffset val="100"/>
        <c:noMultiLvlLbl val="0"/>
      </c:catAx>
      <c:valAx>
        <c:axId val="49015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0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A91-7D6E-42DA-A09B-FD2D08A2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FD6-4A53-427D-B52B-6B0E73CD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243-8930-4E02-B302-11CDB99E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9A1-6B37-48D7-A46C-90C42053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A48-3ABD-493C-96D9-91A55769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49A-251A-4D81-AC95-C2C0A16F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C6A-7AB9-4B63-ABE7-71637D93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56C-9F0B-4DEC-B72B-7E5F0B80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F28-689E-4E89-A749-63463361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C7C-B2CA-4C91-BA2F-A6C43C04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C70-249E-4808-AD79-0648BCFE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A1B-D240-40B7-B7E5-6374925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570F7-C980-4D90-811E-4C9D4854C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