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06042"/>
        <c:axId val="97243555"/>
      </c:barChart>
      <c:catAx>
        <c:axId val="71006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43555"/>
        <c:crosses val="autoZero"/>
        <c:auto val="1"/>
        <c:lblAlgn val="ctr"/>
        <c:lblOffset val="100"/>
        <c:noMultiLvlLbl val="0"/>
      </c:catAx>
      <c:valAx>
        <c:axId val="97243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06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B64-D429-4188-8848-32E65984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0DF-2A36-4D28-8C06-55D818CF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BBA-3157-4CF7-8310-E9B89335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8D7-1D40-45F0-BBAD-D7D70DFC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D36-2826-41C9-96B5-D06346FE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82C-5360-4ACD-AC83-1D0A38BA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215-2173-4659-AFCE-5C7EFB1D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5FE-9337-4405-82D2-39448440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5E3-9720-484F-A99D-7451168F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AC5-83CF-4DCC-8547-534C9D2E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957-3972-447E-B73B-E523DF72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577-B7A5-4396-98B0-C96B1C20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B8323-3A9C-475C-B206-69D077C727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