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74568"/>
        <c:axId val="3244293"/>
      </c:barChart>
      <c:catAx>
        <c:axId val="68974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4293"/>
        <c:crosses val="autoZero"/>
        <c:auto val="1"/>
        <c:lblAlgn val="ctr"/>
        <c:lblOffset val="100"/>
        <c:noMultiLvlLbl val="0"/>
      </c:catAx>
      <c:valAx>
        <c:axId val="3244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4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1DA-CBF7-442A-AECC-B557D9D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AFE-96B9-4D79-AC43-C572ECC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C29-49F4-4404-A9CD-AA767811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5AB-8D1B-4011-A08F-20ACF2C3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E37-BF27-4A08-9832-774912A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FC8-A1E0-4647-9E86-D57E68A2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C47-4557-411D-B23B-D697EF8F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6D4-730A-4090-9FA7-2771D0B1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418-C6C6-4444-934B-2DAF7751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40D-70D1-497C-A9AD-E9C6953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60B-2A70-4C7B-ADA5-2BE77DF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4BF-FA2F-4C18-AEDC-00F8E61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B10CA-FF3B-4817-A6A5-330926DEB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