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26077"/>
        <c:axId val="28046693"/>
      </c:barChart>
      <c:catAx>
        <c:axId val="14526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6693"/>
        <c:crosses val="autoZero"/>
        <c:auto val="1"/>
        <c:lblAlgn val="ctr"/>
        <c:lblOffset val="100"/>
        <c:noMultiLvlLbl val="0"/>
      </c:catAx>
      <c:valAx>
        <c:axId val="28046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26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7E0-8068-4F0E-AE1E-01FBE39E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124-8E68-411F-A651-EE81496F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741-5B16-40ED-A60A-C231C3B0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D79-09BA-4053-B448-DECC12C7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F52-B0BC-4AB8-947C-367202AC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642-814B-4296-B414-2ADB5232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B7D-A911-4C85-8E07-3E15904A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CD0-4BA4-4D5B-84BA-FCC01742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C57-DE04-48F9-B553-67815FBD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964-A92C-4F49-B17C-24FF47B8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0BD-C1A3-40A2-BA84-83AD1F07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7F7-5353-40E7-94FC-E2703ACF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93132-868B-4549-9304-FFF54BA40C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