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95004"/>
        <c:axId val="88079395"/>
      </c:barChart>
      <c:catAx>
        <c:axId val="2589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79395"/>
        <c:crosses val="autoZero"/>
        <c:auto val="1"/>
        <c:lblAlgn val="ctr"/>
        <c:lblOffset val="100"/>
        <c:noMultiLvlLbl val="0"/>
      </c:catAx>
      <c:valAx>
        <c:axId val="88079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9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92D-29F8-433C-A75B-89B4D4F4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058-7D5F-4949-8A66-A3DCE666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49C-4E02-4A04-B841-2D11F693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41E-CF9F-4EA1-A9B4-79E77440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A2C-F3B5-4DE4-A695-BB4E202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900-4910-4630-96F0-9A53B0B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6AA-1EFA-4D45-9EAD-A7947E23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80D-BA0A-47C4-AD31-904F8B64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9A7-C45A-49EF-8D00-5ED1ABB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BD9-0FF5-4973-BE9A-55F2A86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15F-97F9-4B9B-997B-F7CE11C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918-D374-4C50-9797-5AC3F16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1C804-F460-4B63-9366-97D3DBF292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