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812392"/>
        <c:axId val="80427482"/>
      </c:barChart>
      <c:catAx>
        <c:axId val="638123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427482"/>
        <c:crosses val="autoZero"/>
        <c:auto val="1"/>
        <c:lblAlgn val="ctr"/>
        <c:lblOffset val="100"/>
        <c:noMultiLvlLbl val="0"/>
      </c:catAx>
      <c:valAx>
        <c:axId val="804274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8123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C3DC-F576-44BD-8113-643440752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3564-B209-4A4C-B1D4-D75CB16E2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7D51-B4A7-4242-9D6A-D0A91702E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7A2D-AAC5-4F83-B144-F9A5BA06D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050B-1129-45E2-B434-A560BCBE3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608F-4F30-4DF1-AD7C-BD04C2B68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FA90-A642-40C6-81D3-F9E5A81D7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AD83-F793-4E9E-9378-9FC01FA80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8CAD-4213-4C88-B0E4-40F4D9C78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9454-982D-42CB-9C72-692826A2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212F-287A-450F-B9F2-BA0172EA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5378-DDDA-4D44-8A0C-80A67A90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9858E2-E812-49FC-B36E-0ED347F729C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