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15258"/>
        <c:axId val="78480380"/>
      </c:barChart>
      <c:catAx>
        <c:axId val="75015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80380"/>
        <c:crosses val="autoZero"/>
        <c:auto val="1"/>
        <c:lblAlgn val="ctr"/>
        <c:lblOffset val="100"/>
        <c:noMultiLvlLbl val="0"/>
      </c:catAx>
      <c:valAx>
        <c:axId val="78480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15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F53-713A-4C67-B551-3F2C0A2B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D03-D276-4E4E-8B20-2220A77E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E9B1-3858-46EE-8221-F390BFAF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669-A028-4B29-82E5-C7A174A7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8C8-DF60-439A-94DA-2B33D4E9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FE8-DCDF-407F-AE93-B0882502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CAD-D6E8-41B3-9A46-6E546DB4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8DC-752A-49A0-A2BF-86CDB311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BB0-F893-4056-9C9D-F9DF7639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C3F-1A3C-45A7-BF12-5983DA45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5D3-5F5A-4317-8CCB-C15D2D9C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109-7DE7-471B-B977-C98C0DD3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4BA4B-EB6D-4FD4-8359-430C88CDE6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