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36754"/>
        <c:axId val="9699726"/>
      </c:barChart>
      <c:catAx>
        <c:axId val="58336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9726"/>
        <c:crosses val="autoZero"/>
        <c:auto val="1"/>
        <c:lblAlgn val="ctr"/>
        <c:lblOffset val="100"/>
        <c:noMultiLvlLbl val="0"/>
      </c:catAx>
      <c:valAx>
        <c:axId val="96997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36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30BB-DC05-4C16-89DE-4527A1E8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6E6-E5D0-47D9-AB0C-94F59EF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96D-35FE-4149-A584-748A3480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2F6-0EAC-4F6C-B6FC-318D8224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321-9ECE-49CB-AFCB-B858332A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BE1-16FF-4FFA-A669-1E4EFD09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02E-DCA9-473A-AD6A-839D13D1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6B3-4AC6-443A-AD0B-3FDBCBCA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C45-6E94-4D11-84ED-1C172CB7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957-B686-4B39-8D44-4E07FE5E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190-3B38-4AA8-8FA2-C0498EF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7E1-DBFE-4F77-B8BD-2CC7EC0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28BFA-B3C4-4905-9F12-FCCF4D875C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