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10942"/>
        <c:axId val="21436203"/>
      </c:barChart>
      <c:catAx>
        <c:axId val="88510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36203"/>
        <c:crosses val="autoZero"/>
        <c:auto val="1"/>
        <c:lblAlgn val="ctr"/>
        <c:lblOffset val="100"/>
        <c:noMultiLvlLbl val="0"/>
      </c:catAx>
      <c:valAx>
        <c:axId val="21436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10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8A7-22D8-4169-A1B4-78F338F0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03C-15E6-4CC2-BECD-D7CB690B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EDD-47BF-4FFB-A836-03F18F33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CFD-FD40-4080-AA5E-25CF445F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56F-D827-4340-A47A-5896099C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0A1-0069-4189-A8B4-E378E924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0F3-B07B-47EB-AF24-2574FC4D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CB1-2D5A-4E3E-9B5D-A71DD954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DD3-9EA9-4F1B-BA2F-6EA258F0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606-EDC2-43C9-BEB9-9A1A9B2D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682-E417-41FD-A3D2-7761CE50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1C9-8003-4178-8A49-AAFFE5B6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58ADE-B10C-45BD-81EE-0112BAEEAB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