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27266"/>
        <c:axId val="19583132"/>
      </c:barChart>
      <c:catAx>
        <c:axId val="83227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83132"/>
        <c:crosses val="autoZero"/>
        <c:auto val="1"/>
        <c:lblAlgn val="ctr"/>
        <c:lblOffset val="100"/>
        <c:noMultiLvlLbl val="0"/>
      </c:catAx>
      <c:valAx>
        <c:axId val="19583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27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48E-56E1-4E3D-8A01-2E90351E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EFA-4075-443A-AD6B-143E751B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0BB-F81F-4A41-B20E-968C6F12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8E8-EB8D-467E-ABC0-4ADD3C12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C72-A00F-492B-BC8B-D8D0B9D1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4C6-6A31-429E-A06D-DD181FCA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8FD-9D73-4721-85C4-E354F780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9F4-AA60-4E3D-B3B7-C1DBB7E9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6D2-9214-46D3-A2D4-607A0ED2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454-C13B-4B1B-A995-ACF224F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752-7ED0-42D9-8123-9166228A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350-9704-425D-856A-B21CA5F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06554-F35E-446D-8A65-0999596EEF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