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03358"/>
        <c:axId val="65770251"/>
      </c:barChart>
      <c:catAx>
        <c:axId val="16803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0251"/>
        <c:crosses val="autoZero"/>
        <c:auto val="1"/>
        <c:lblAlgn val="ctr"/>
        <c:lblOffset val="100"/>
        <c:noMultiLvlLbl val="0"/>
      </c:catAx>
      <c:valAx>
        <c:axId val="65770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3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12F-F545-4D04-9968-A9032464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902-BDDF-4070-91D9-79F7415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25B-504F-43B0-8167-F29EED38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D8F-9EEE-4AA4-AF99-46EB43C5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5C0-A9A9-4021-B913-DCE7583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693-E306-48A9-A878-65DDBF1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AAE-39DA-4676-BA35-C91717CA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9ED-62B3-495C-B12B-408C4D98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15C-EE27-4080-9DCD-9B02CAD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ABC-B3D0-4ABA-AE96-EE2A2B7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8D7-E0E6-42CC-BBA5-D0A4A85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4AC-47CB-41F6-BE34-C3B5150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0C0D3-F434-4C53-A5E5-2F7A94EC8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