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12199"/>
        <c:axId val="72749574"/>
      </c:barChart>
      <c:catAx>
        <c:axId val="48112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49574"/>
        <c:crosses val="autoZero"/>
        <c:auto val="1"/>
        <c:lblAlgn val="ctr"/>
        <c:lblOffset val="100"/>
        <c:noMultiLvlLbl val="0"/>
      </c:catAx>
      <c:valAx>
        <c:axId val="72749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12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59B-CFC0-4F8B-AFCF-46C5E30D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C27-721A-4D37-B1CC-A5D4033B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21C-F042-4162-B6F2-C570E12A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413-B6EF-4C56-BF1F-2CF5484E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4C8-117F-4CE6-B61F-99E02B02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8EB-3E31-4A30-87F9-9068BF1E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DF5-B3C8-44B6-9D15-76A59F0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33A-08FB-4146-A9ED-500C20C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6FF-A549-44E1-9CD2-1A71CD20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326-2512-4B87-9246-1CC93438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B40-25DF-4980-BF45-7D572D80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354-3C57-4263-BC54-2158493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20691-BE99-4202-81AB-F17B49DFBF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