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76067"/>
        <c:axId val="23353438"/>
      </c:barChart>
      <c:catAx>
        <c:axId val="87676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53438"/>
        <c:crosses val="autoZero"/>
        <c:auto val="1"/>
        <c:lblAlgn val="ctr"/>
        <c:lblOffset val="100"/>
        <c:noMultiLvlLbl val="0"/>
      </c:catAx>
      <c:valAx>
        <c:axId val="23353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76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133-354D-4EF3-9BE9-86198AF2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681-040B-4E16-BCDA-EF589BB9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922-0624-4AFD-84B0-05452F90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F40-6108-4AFC-B0C4-321FCDBB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994-A9C5-465E-B489-9AB5938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7D4-19A1-4C8C-B3D8-8557D1B4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0DF6-766E-406C-A4D5-B5B1750C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63F-F62D-4119-8EF0-A4728085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0163-70CB-4B95-9C6A-AA4A6529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761-2CCA-41C6-B88E-BED71116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772-1269-408E-BE54-6D714E6D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C9C-6C54-4A74-A92B-4C4C20A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03213-5202-4F6B-837B-5F2C408567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