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16048"/>
        <c:axId val="23692726"/>
      </c:barChart>
      <c:catAx>
        <c:axId val="28916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92726"/>
        <c:crosses val="autoZero"/>
        <c:auto val="1"/>
        <c:lblAlgn val="ctr"/>
        <c:lblOffset val="100"/>
        <c:noMultiLvlLbl val="0"/>
      </c:catAx>
      <c:valAx>
        <c:axId val="23692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16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736-B7E9-4DA5-B032-4BA58464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9B2-38CD-4D0F-8A2C-5A0C9A67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BF3-8326-45E5-BCA9-6C7D0A72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DDB-8B4C-4D77-91A3-C6330F76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01E-97B2-4DC6-94F6-D23DE8A9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1C6-588D-4BC0-ADFD-E189C532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DFE-A2E4-44FD-B1FE-5E45173B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210-FB8E-48A4-A069-7D173330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432-1F02-4C08-BCBF-1CE1618E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DC0-2ECB-4534-8FAB-0EF079BC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552-BE02-47D1-8B5D-8D771BE3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843-B521-4141-A383-20E6AC76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0DA5B-9174-4914-AD18-ADCEF98A8D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