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83608"/>
        <c:axId val="95260948"/>
      </c:barChart>
      <c:catAx>
        <c:axId val="96983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60948"/>
        <c:crosses val="autoZero"/>
        <c:auto val="1"/>
        <c:lblAlgn val="ctr"/>
        <c:lblOffset val="100"/>
        <c:noMultiLvlLbl val="0"/>
      </c:catAx>
      <c:valAx>
        <c:axId val="95260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83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430-801F-4F19-8BEB-E3932CAF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796-1251-4E45-91E0-8499892B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A26-6922-4DB2-8AA1-CC5D003B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3DA-07BA-41CA-A9A2-B9BC3AB5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887-6662-49E8-8CA7-627378C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BEB-A19E-4092-BB9F-60C0A90E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ACB-32CA-483E-BD44-B63AC06E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23C-FADB-4B20-982A-855D378D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C74-C893-4733-A9E5-70ABFD74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81A-707C-49EB-B404-36CB9B5E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84A-8E5D-4A8A-80B1-BEA87F6F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A85-0D81-4A6F-B125-86B032FB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8BCDE-2E19-427E-A3C7-6A2739A49A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