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8067"/>
        <c:axId val="84726927"/>
      </c:barChart>
      <c:catAx>
        <c:axId val="5158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26927"/>
        <c:crosses val="autoZero"/>
        <c:auto val="1"/>
        <c:lblAlgn val="ctr"/>
        <c:lblOffset val="100"/>
        <c:noMultiLvlLbl val="0"/>
      </c:catAx>
      <c:valAx>
        <c:axId val="847269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8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FBE-F14D-4CB7-9126-E2A3956B2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E20-104B-45D2-9436-B27464F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00F-EF6E-4D6F-87B2-5BAA4E49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B51A-12CE-4679-85E2-54F83F4B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F8B-B23B-4A74-B74A-971ED78B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314-E815-45ED-8CD7-17ED678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089-F193-4E09-BC27-D03BEA06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8B85-FE0D-497E-97A0-3964179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802E-B4A2-44BC-9E37-AFF0E6AB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DCC8-74E4-4D1E-85FD-AA6D19F5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DDCB-07F6-43F6-ACB7-001B856C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550-3372-4EEE-869D-DFBAD525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13271-7E76-48EA-9C9B-54C790F6F0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