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163077"/>
        <c:axId val="64659799"/>
      </c:barChart>
      <c:catAx>
        <c:axId val="931630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659799"/>
        <c:crosses val="autoZero"/>
        <c:auto val="1"/>
        <c:lblAlgn val="ctr"/>
        <c:lblOffset val="100"/>
        <c:noMultiLvlLbl val="0"/>
      </c:catAx>
      <c:valAx>
        <c:axId val="646597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630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2AD7-7C28-468D-B8DE-718DD77A6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BDA3-7377-40FD-BDB7-962F0C25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8695-287A-456B-8CD8-0A5A378CB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7FEC-B89B-47DB-A112-560806ED6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66EB-4C11-4F6D-B94A-06A4C2C2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4A11-8095-4340-AD85-BB016760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FB72-B98F-489B-905C-C875C87B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2879-AE04-4D60-BCB3-D385AB68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959D-A839-46CD-BA35-F0F01BBB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C733-7933-4466-A2A1-D0FE6134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25B0-63B8-4414-81B6-E3E1730E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C500-C58D-48AE-B381-FE030647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08700A-2661-4E50-8DE5-4231A82EAC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