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28302"/>
        <c:axId val="13429258"/>
      </c:barChart>
      <c:catAx>
        <c:axId val="3432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29258"/>
        <c:crosses val="autoZero"/>
        <c:auto val="1"/>
        <c:lblAlgn val="ctr"/>
        <c:lblOffset val="100"/>
        <c:noMultiLvlLbl val="0"/>
      </c:catAx>
      <c:valAx>
        <c:axId val="13429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46F-B114-4F3D-BB1D-5EA6C031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546-62A7-49FC-AA82-8DE78393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452-754A-4129-8802-F74E9271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F53-86D5-480B-8F15-89F0441D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B23-F388-4EE7-9DFF-8048D5C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4B9-2146-449C-A830-F55E6DF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81D-8DEB-46D6-A626-7043A86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49D-43BB-4485-B386-8971A60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60E-9FB5-49BB-8BE4-1B54F666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A46-0B22-4F15-B67D-38368B9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A40-1D9B-413C-96B7-7374C18F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FC0-21D4-4AD4-84F5-6D271AA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CC39-FCA4-4099-8048-B5669A4CF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