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46745"/>
        <c:axId val="85016840"/>
      </c:barChart>
      <c:catAx>
        <c:axId val="60446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16840"/>
        <c:crosses val="autoZero"/>
        <c:auto val="1"/>
        <c:lblAlgn val="ctr"/>
        <c:lblOffset val="100"/>
        <c:noMultiLvlLbl val="0"/>
      </c:catAx>
      <c:valAx>
        <c:axId val="85016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46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9F6-4E83-4AAD-9D28-9BDE84CB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DC6-18E5-4BB1-86A6-AA83BB75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06A-E7BB-41A2-A1C6-9B20D8A3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ECA-991B-4219-87D3-B32FBE6E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FED-95FD-492B-91FE-9D27D8B6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D54-0592-4000-9775-E49CC204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B13-8BF9-4521-B502-BBA26EEB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C3C-E771-4841-B046-47700F1B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F64-95F7-4BB5-ADB6-08C5ECA1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5A2-917B-4809-8DCF-7062B306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E1B-F2A8-4C67-BC53-2C60A0CF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08D-E743-4A73-8C50-A7AC25B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3337F-4BD9-43C1-B323-C05AC5AA02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