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30529"/>
        <c:axId val="4754315"/>
      </c:barChart>
      <c:catAx>
        <c:axId val="22630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4315"/>
        <c:crosses val="autoZero"/>
        <c:auto val="1"/>
        <c:lblAlgn val="ctr"/>
        <c:lblOffset val="100"/>
        <c:noMultiLvlLbl val="0"/>
      </c:catAx>
      <c:valAx>
        <c:axId val="4754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30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C9F-4471-4DF5-B221-43184A6B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3B3-282B-4D5C-8C92-90D3503E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5D1-5AD2-4F3E-A1DD-16FFAED4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E1D-6B89-4CDB-BBEC-1C4521A0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246-9ABC-4C1B-A31B-E6949743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A06-180E-4B2B-A9D6-0E2B730C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AC2-984C-45C8-A94B-E130028C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FF7-9C3F-4DB9-998C-4ED6456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81A-3F36-4963-ABE7-17F53D1F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A41-FD06-4484-BDD5-CB5BC3EE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A6A-DF7D-4E45-81D9-F59E22D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A74-0DBD-47BA-8DC7-6A75D9E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763B9-1326-4626-89A1-6119BF25AF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