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95821"/>
        <c:axId val="70223208"/>
      </c:barChart>
      <c:catAx>
        <c:axId val="76095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23208"/>
        <c:crosses val="autoZero"/>
        <c:auto val="1"/>
        <c:lblAlgn val="ctr"/>
        <c:lblOffset val="100"/>
        <c:noMultiLvlLbl val="0"/>
      </c:catAx>
      <c:valAx>
        <c:axId val="70223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95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F77-CE71-439B-B031-296BBDDE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E6A-22C0-42BC-AE0D-044D1197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737-C387-45AC-94D8-F9157F83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B3B-EF8C-4FCE-8B31-57273C1C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E7A-D706-40C5-BE5A-4CC81D5B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ACC-977F-4C6E-B704-005309D1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FBB-0723-4B27-90E9-7B02E3D6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6A2-D9A8-4C32-974C-7DF717A2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8DD-A1F8-4FD6-BA88-F95A670A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DD1-7F31-4830-AB3A-EA3BD8E6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3B4-D5C9-48D3-BDB7-07FCA61A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EAC-4F16-45F7-A92C-F8C09AD5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01127-E1F8-4A70-A29A-3D6D001F85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