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32258"/>
        <c:axId val="20676583"/>
      </c:barChart>
      <c:catAx>
        <c:axId val="50132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76583"/>
        <c:crosses val="autoZero"/>
        <c:auto val="1"/>
        <c:lblAlgn val="ctr"/>
        <c:lblOffset val="100"/>
        <c:noMultiLvlLbl val="0"/>
      </c:catAx>
      <c:valAx>
        <c:axId val="20676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32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AAF-D4D9-43EA-B114-4CB8B1D5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0B2-F63A-413A-B056-C327CB14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238-1F88-4BA3-AB1E-B661404F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28E-5F88-43D2-B380-AB3EE122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E4A-3F6D-4D6E-9027-CE1BD83E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23E-04B0-4E47-96D7-2B41BDE0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767-AD44-4963-B8E0-651ECE63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5ED-18A4-4B9B-8027-C2A7AA10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6E5-4007-4AEF-8420-B71FFF1B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98B-2F6E-4AA7-9A68-CAD96BFD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EEC-9F92-4389-8C55-2A666A6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FAA-925C-496C-84F3-095233DA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29BA9-38CE-4306-95E0-FF4B73BAFA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