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130994"/>
        <c:axId val="35776145"/>
      </c:barChart>
      <c:catAx>
        <c:axId val="921309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76145"/>
        <c:crosses val="autoZero"/>
        <c:auto val="1"/>
        <c:lblAlgn val="ctr"/>
        <c:lblOffset val="100"/>
        <c:noMultiLvlLbl val="0"/>
      </c:catAx>
      <c:valAx>
        <c:axId val="357761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1309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5424-0AF0-475F-9A64-C7784909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7625-8821-425E-992E-C59B63E2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FD45-3338-4BBB-A5E6-5F667A61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2CC9-257C-43F1-8E1F-5A2D3522D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FBB2-DE23-4DF9-99D3-CF1978E1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699B-AB63-46FA-9D86-4AED1DCA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EA04-F226-4F49-9BF1-F8FB42AF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C7BB-9AFC-4718-948A-0872C0DB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6A62-7B5B-406E-8075-6D62BD4B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4BD1-C2A6-4455-AD9D-9DAC813F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4245-F3DF-4453-B7B7-A9DBCE25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0A37-313A-497E-9CC1-E39B0B34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DC3D9-84F7-45F8-8023-76CCCA773D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