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21722"/>
        <c:axId val="47598918"/>
      </c:barChart>
      <c:catAx>
        <c:axId val="18221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98918"/>
        <c:crosses val="autoZero"/>
        <c:auto val="1"/>
        <c:lblAlgn val="ctr"/>
        <c:lblOffset val="100"/>
        <c:noMultiLvlLbl val="0"/>
      </c:catAx>
      <c:valAx>
        <c:axId val="47598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21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CCC-9961-4665-8ACB-ED5FE0F0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2D2-A09A-4751-B55E-68E7A04F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898-D50F-4A74-8B7C-63F2CCF4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8AD-AC55-4187-AAD5-D99043B4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64A-294D-4B39-851F-6BF6D2D7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673-66EB-45A1-A1C4-31B8DBC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EAD-E9BE-4609-87D9-DCD1B87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177-B683-4D9F-B71C-0282AC04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AE5-D2C4-4FEB-894D-B2BF4CC4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B4A-DDC8-4B6D-8F41-86011B4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0AA-2681-4C27-99C6-73401DA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DC1-8635-46FE-81E2-F29A4EF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C5FB-C9B2-4A7D-A437-B5D4B1CA7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