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16976"/>
        <c:axId val="42327281"/>
      </c:barChart>
      <c:catAx>
        <c:axId val="117169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27281"/>
        <c:crosses val="autoZero"/>
        <c:auto val="1"/>
        <c:lblAlgn val="ctr"/>
        <c:lblOffset val="100"/>
        <c:noMultiLvlLbl val="0"/>
      </c:catAx>
      <c:valAx>
        <c:axId val="423272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169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2A54-8109-4A6E-A0E1-0FDF14E1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0CC8-350D-481B-A09E-F588140E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9576-65D2-4F9D-A211-6443BECC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3C0-728E-46C2-8043-323AE851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1E57-8CD4-457C-8391-B314BC90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43B5-7B9E-45BB-B705-47392C37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3CED-1468-48EC-B56D-1E0292DD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4E70-80A3-4812-B8AB-5D3E94C0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8A57-C3F9-4BA8-88D3-35B1826B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CEB0-8452-415F-B74A-9E224F87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57E0-54C3-4084-9933-CAB9813E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E259-6D74-4A9A-B785-3D80F1E5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1D908-0890-4ADB-80C1-6F13815412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