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061925"/>
        <c:axId val="55354290"/>
      </c:barChart>
      <c:catAx>
        <c:axId val="780619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54290"/>
        <c:crosses val="autoZero"/>
        <c:auto val="1"/>
        <c:lblAlgn val="ctr"/>
        <c:lblOffset val="100"/>
        <c:noMultiLvlLbl val="0"/>
      </c:catAx>
      <c:valAx>
        <c:axId val="553542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0619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8316-1B86-455E-B52A-3876077BC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CA75-B201-4FFD-820E-22DF0439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41BC-5411-4ACE-895F-C2D19ED70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2B9C-B5C9-4369-BA29-05531A0C5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93B5-9ADA-4EAC-B3E4-CB12D1FF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D913-7A0C-4C49-A58D-F794D463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664F-C85D-406B-900D-B4512BC6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D4CA-2DD0-477F-86A8-C9DA4443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B4B3-4E7D-4941-AB14-8D2D5C67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F806-23AD-4DBD-9087-7CF1DCEC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CB5B-46F9-4F5B-B706-D1C2DE7E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17FF-7B6A-42BB-82E9-C860FC98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3EA03-9859-4ECD-A782-1A9FF863C5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