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08277"/>
        <c:axId val="92876419"/>
      </c:barChart>
      <c:catAx>
        <c:axId val="18082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876419"/>
        <c:crosses val="autoZero"/>
        <c:auto val="1"/>
        <c:lblAlgn val="ctr"/>
        <c:lblOffset val="100"/>
        <c:noMultiLvlLbl val="0"/>
      </c:catAx>
      <c:valAx>
        <c:axId val="928764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082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9516-C110-43D7-AD13-D79244A39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98A2-03D8-42DA-9C68-4A29ED80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0E15-2129-4199-B16F-7B70BB46B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436D-4E3C-44D9-996E-14384DEB3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5442-3D83-4D9D-9C6C-35A7B7EE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6305-00E1-4E33-8368-EBD94741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695D-AE46-438A-B834-A48FBAA7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AA1D-8AC0-4217-A0FA-E495AFE7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18E7-2915-49CC-9558-642EB7C6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97FF-00CB-4D4B-8514-CAD76426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1CA0-AA33-481C-9B35-C856D433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C6B3-F0CE-4A9D-BF29-C4DC7CC9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54AB8-3202-460E-9E4B-E59FBAFF54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