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35281"/>
        <c:axId val="88733732"/>
      </c:barChart>
      <c:catAx>
        <c:axId val="81835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33732"/>
        <c:crosses val="autoZero"/>
        <c:auto val="1"/>
        <c:lblAlgn val="ctr"/>
        <c:lblOffset val="100"/>
        <c:noMultiLvlLbl val="0"/>
      </c:catAx>
      <c:valAx>
        <c:axId val="88733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35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9F2-9A94-4BB3-9DC7-4B9CEEC5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C89-5DE4-4641-9789-9E520A27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B67-5AEB-4034-A341-312AFBF1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D07-62EF-49D6-BC23-2EBC40AE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C92-0398-450D-AB77-C473507A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BA1-60F0-4503-9B67-7AE7EB3C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05C-3A24-48F7-844F-028D98D0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FCC-3CA4-4EEB-B9F9-354A1744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C85-33E9-46D2-8160-E495E23B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D4B-25A3-46C7-9047-76A0C259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DC7-F548-4ACE-979B-629C41BF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9CD-3A4F-49AE-A664-C77A1FB9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E4DE8-566A-4070-A7D4-C869979678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