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49879"/>
        <c:axId val="79022739"/>
      </c:barChart>
      <c:catAx>
        <c:axId val="49849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22739"/>
        <c:crosses val="autoZero"/>
        <c:auto val="1"/>
        <c:lblAlgn val="ctr"/>
        <c:lblOffset val="100"/>
        <c:noMultiLvlLbl val="0"/>
      </c:catAx>
      <c:valAx>
        <c:axId val="79022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49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82E-5EB2-4E84-B660-CA066D6C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FB3-1E14-47D9-B6BC-AF7CB67C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5F7-E411-49C9-9A60-4B5D9ADA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99D-A7B7-4824-AA0C-B8AB9685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54D-99DF-4DBA-8DB1-FC07B16B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0E1-4D82-4E3D-941B-138E5C6D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818-6541-4CA2-A1C0-31D6D592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DA4-491D-4840-9CB9-843F8BD8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05B-160B-4E7E-B235-B0470497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970-9FA7-40EB-8014-C445ACED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02B-2992-4E92-9C75-C1A0966F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9A3-F51D-4D25-B1C8-982B66C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D771C-4D5A-413D-A6FD-397E37AF9E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